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2A38-86E6-4E62-BD8D-7F190D148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2924-0A17-48B4-B539-48AD7AF7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19BB-BBB0-445B-9282-B3978A18B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8AB8-4238-4F7C-8637-FF4E9596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7A09-DDE4-43D1-BA39-75EFE59F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16A4-202C-45D4-AA60-80A71F2C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9D80-E6C5-4F1F-8ED3-6405BF0F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E2D5-1772-42E9-8334-6C9E462C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B07E-CBD0-43B6-854D-34793244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0927-B3CC-4B60-968C-95FED166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8604-C095-421C-9023-A6C48D0A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F04A-FA66-4AA2-B21E-58C6CE1B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9221-4FC5-48C2-8E81-27B6A7E16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91120" y="26665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erre Auguste Renoi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181120" y="3885840"/>
            <a:ext cx="3124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41-19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renoir_photo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292896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bougival" descr=""/>
          <p:cNvPicPr/>
          <p:nvPr/>
        </p:nvPicPr>
        <p:blipFill>
          <a:blip r:embed="rId1"/>
          <a:stretch/>
        </p:blipFill>
        <p:spPr>
          <a:xfrm>
            <a:off x="2409840" y="571680"/>
            <a:ext cx="4324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anoeist" descr=""/>
          <p:cNvPicPr/>
          <p:nvPr/>
        </p:nvPicPr>
        <p:blipFill>
          <a:blip r:embed="rId1"/>
          <a:stretch/>
        </p:blipFill>
        <p:spPr>
          <a:xfrm>
            <a:off x="1143000" y="558720"/>
            <a:ext cx="7010280" cy="5867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590920" y="64008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s Canot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514600" y="541008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s grandes baigneuses,1900 The Barnes Foundat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lady-piano" descr=""/>
          <p:cNvPicPr/>
          <p:nvPr/>
        </p:nvPicPr>
        <p:blipFill>
          <a:blip r:embed="rId1"/>
          <a:stretch/>
        </p:blipFill>
        <p:spPr>
          <a:xfrm>
            <a:off x="2319480" y="571680"/>
            <a:ext cx="45050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renoir.charpentier" descr=""/>
          <p:cNvPicPr/>
          <p:nvPr/>
        </p:nvPicPr>
        <p:blipFill>
          <a:blip r:embed="rId1"/>
          <a:stretch/>
        </p:blipFill>
        <p:spPr>
          <a:xfrm>
            <a:off x="633240" y="262080"/>
            <a:ext cx="7875720" cy="6332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819520" y="6477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dame Charpen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arisian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002120" cy="6019920"/>
          </a:xfrm>
          <a:prstGeom prst="rect">
            <a:avLst/>
          </a:prstGeom>
          <a:ln w="0">
            <a:noFill/>
          </a:ln>
        </p:spPr>
      </p:pic>
      <p:pic>
        <p:nvPicPr>
          <p:cNvPr id="84" name="swing" descr=""/>
          <p:cNvPicPr/>
          <p:nvPr/>
        </p:nvPicPr>
        <p:blipFill>
          <a:blip r:embed="rId2"/>
          <a:stretch/>
        </p:blipFill>
        <p:spPr>
          <a:xfrm>
            <a:off x="4495680" y="380880"/>
            <a:ext cx="4367160" cy="5639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38080" y="63244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 Parisie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 Balanç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noir.promenade" descr=""/>
          <p:cNvPicPr/>
          <p:nvPr/>
        </p:nvPicPr>
        <p:blipFill>
          <a:blip r:embed="rId1"/>
          <a:stretch/>
        </p:blipFill>
        <p:spPr>
          <a:xfrm>
            <a:off x="2119320" y="304920"/>
            <a:ext cx="49053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noir-le-moulin-de-la-galette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620120" cy="5621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676520" y="59436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ulin de la Ga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noir-luncheon-of-the-boating-party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229600" cy="610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666880" y="62485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 Déjeu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renoir-madame-monet-lying-on-sofa" descr=""/>
          <p:cNvPicPr/>
          <p:nvPr/>
        </p:nvPicPr>
        <p:blipFill>
          <a:blip r:embed="rId1"/>
          <a:stretch/>
        </p:blipFill>
        <p:spPr>
          <a:xfrm>
            <a:off x="609480" y="514440"/>
            <a:ext cx="8305920" cy="61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errace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4386240" cy="5486400"/>
          </a:xfrm>
          <a:prstGeom prst="rect">
            <a:avLst/>
          </a:prstGeom>
          <a:ln w="0">
            <a:noFill/>
          </a:ln>
        </p:spPr>
      </p:pic>
      <p:pic>
        <p:nvPicPr>
          <p:cNvPr id="94" name="watercan" descr=""/>
          <p:cNvPicPr/>
          <p:nvPr/>
        </p:nvPicPr>
        <p:blipFill>
          <a:blip r:embed="rId2"/>
          <a:stretch/>
        </p:blipFill>
        <p:spPr>
          <a:xfrm>
            <a:off x="5029200" y="838080"/>
            <a:ext cx="3865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années de sa jeunes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2520" y="129528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erre-Auguste Renoir est né à Limoges d’une famille ouvrière. Son père était tailleur et sa mère couturiè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travaillait dans l’usine de porcelaine quand il était jeu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a vu son talent de dessin et il a été choisi de peintre la porcelaine la plus fine dans l’atelier Lev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50292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 porcelaine de Limo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limoges-tea-set-7" descr=""/>
          <p:cNvPicPr/>
          <p:nvPr/>
        </p:nvPicPr>
        <p:blipFill>
          <a:blip r:embed="rId1"/>
          <a:stretch/>
        </p:blipFill>
        <p:spPr>
          <a:xfrm>
            <a:off x="0" y="1371600"/>
            <a:ext cx="510552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noir-young-woman-wearing-a-hat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4103640" cy="4915080"/>
          </a:xfrm>
          <a:prstGeom prst="rect">
            <a:avLst/>
          </a:prstGeom>
          <a:ln w="0">
            <a:noFill/>
          </a:ln>
        </p:spPr>
      </p:pic>
      <p:pic>
        <p:nvPicPr>
          <p:cNvPr id="96" name="renoir-young-girl-reading" descr=""/>
          <p:cNvPicPr/>
          <p:nvPr/>
        </p:nvPicPr>
        <p:blipFill>
          <a:blip r:embed="rId2"/>
          <a:stretch/>
        </p:blipFill>
        <p:spPr>
          <a:xfrm>
            <a:off x="4648320" y="685800"/>
            <a:ext cx="3840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noir-two-girls-at-the-piano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735440" cy="6400800"/>
          </a:xfrm>
          <a:prstGeom prst="rect">
            <a:avLst/>
          </a:prstGeom>
          <a:ln w="0">
            <a:noFill/>
          </a:ln>
        </p:spPr>
      </p:pic>
      <p:pic>
        <p:nvPicPr>
          <p:cNvPr id="98" name="renoir-young-woman-braiding-her-hair" descr=""/>
          <p:cNvPicPr/>
          <p:nvPr/>
        </p:nvPicPr>
        <p:blipFill>
          <a:blip r:embed="rId2"/>
          <a:stretch/>
        </p:blipFill>
        <p:spPr>
          <a:xfrm>
            <a:off x="5105520" y="990720"/>
            <a:ext cx="3794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s études d’art à Par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95320" y="838080"/>
            <a:ext cx="3962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a  beaucoup visité le Louvre pour étudier les chefs-d’oeuvres des grands artis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1862 il a commencé ses études aux Beaux-Arts à Paris. Il a fait la connaissance de Sisley, Bazille, et Monet dans l’atelier de Glyre, un peintre suis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4876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 Grenouillère, 18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grenouillere62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03848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oir, l’impressionnist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409720" y="1295280"/>
            <a:ext cx="3505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dant les années 60, quelquefois, il était si pauvre qu’il n’avait pas assez d’argent pour peint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oir a montré six peintures dans la première exposition des impressionnistes en 1874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4114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 loge, 18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74la_log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2381040" cy="2971800"/>
          </a:xfrm>
          <a:prstGeom prst="rect">
            <a:avLst/>
          </a:prstGeom>
          <a:ln w="0">
            <a:noFill/>
          </a:ln>
        </p:spPr>
      </p:pic>
      <p:pic>
        <p:nvPicPr>
          <p:cNvPr id="56" name="74dancer" descr=""/>
          <p:cNvPicPr/>
          <p:nvPr/>
        </p:nvPicPr>
        <p:blipFill>
          <a:blip r:embed="rId2"/>
          <a:stretch/>
        </p:blipFill>
        <p:spPr>
          <a:xfrm>
            <a:off x="3276720" y="2057400"/>
            <a:ext cx="1849320" cy="2895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971800" y="5029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 danseuse, 18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 famill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3581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1890 Renoir s’est marié avec Aline Charigo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rès son mariage, il a peint beaucoup de scènes avec sa femme et ses trois enf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renoir.famille-artiste" descr=""/>
          <p:cNvPicPr/>
          <p:nvPr/>
        </p:nvPicPr>
        <p:blipFill>
          <a:blip r:embed="rId1"/>
          <a:stretch/>
        </p:blipFill>
        <p:spPr>
          <a:xfrm>
            <a:off x="4343400" y="990720"/>
            <a:ext cx="4311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6782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maladi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s 1892, Renoir a commencé a souffrir d’arthr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 s’est démanagé à Cagnes-sur-Mer dans le sud de la France, sur la côte Méditerranée, où il faisait plus chau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near-lake" descr=""/>
          <p:cNvPicPr/>
          <p:nvPr/>
        </p:nvPicPr>
        <p:blipFill>
          <a:blip r:embed="rId1"/>
          <a:stretch/>
        </p:blipFill>
        <p:spPr>
          <a:xfrm>
            <a:off x="4191120" y="1219320"/>
            <a:ext cx="459576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6782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statu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3276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a fin de sa carrière il a peint avec le pinceau attaché à ses doigts paralysés avec les bandelet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a commencé à faire les statues pendant cette période à cause de la difficulté de peint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statue2" descr=""/>
          <p:cNvPicPr/>
          <p:nvPr/>
        </p:nvPicPr>
        <p:blipFill>
          <a:blip r:embed="rId1"/>
          <a:stretch/>
        </p:blipFill>
        <p:spPr>
          <a:xfrm>
            <a:off x="3505320" y="914400"/>
            <a:ext cx="2276280" cy="3048120"/>
          </a:xfrm>
          <a:prstGeom prst="rect">
            <a:avLst/>
          </a:prstGeom>
          <a:ln w="0">
            <a:noFill/>
          </a:ln>
        </p:spPr>
      </p:pic>
      <p:pic>
        <p:nvPicPr>
          <p:cNvPr id="67" name="statue4" descr=""/>
          <p:cNvPicPr/>
          <p:nvPr/>
        </p:nvPicPr>
        <p:blipFill>
          <a:blip r:embed="rId2"/>
          <a:stretch/>
        </p:blipFill>
        <p:spPr>
          <a:xfrm>
            <a:off x="5867280" y="3352680"/>
            <a:ext cx="2997360" cy="31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6782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 mor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oir est mort dans ce petit village en Provence en décembre de  1919 d’une congestion pulmona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a laissé un legs de peintre, aquareliste, pastelliste et dessinateu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renoir-yvonne-and-jean" descr=""/>
          <p:cNvPicPr/>
          <p:nvPr/>
        </p:nvPicPr>
        <p:blipFill>
          <a:blip r:embed="rId1"/>
          <a:stretch/>
        </p:blipFill>
        <p:spPr>
          <a:xfrm>
            <a:off x="3886200" y="1309680"/>
            <a:ext cx="476244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city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343400" cy="5715000"/>
          </a:xfrm>
          <a:prstGeom prst="rect">
            <a:avLst/>
          </a:prstGeom>
          <a:ln w="0">
            <a:noFill/>
          </a:ln>
        </p:spPr>
      </p:pic>
      <p:pic>
        <p:nvPicPr>
          <p:cNvPr id="72" name="country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4000680" cy="5715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09480" y="60199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 Vi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38480" y="5334120"/>
            <a:ext cx="434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76920" y="60199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 Campag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2T05:24:54Z</dcterms:created>
  <dc:creator>dsa'ljg'prg</dc:creator>
  <dc:description/>
  <dc:language>en-US</dc:language>
  <cp:lastModifiedBy>dsa'ljg'prg</cp:lastModifiedBy>
  <dcterms:modified xsi:type="dcterms:W3CDTF">2008-06-12T22:46:23Z</dcterms:modified>
  <cp:revision>28</cp:revision>
  <dc:subject/>
  <dc:title>Pierre Auguste Renoir </dc:title>
</cp:coreProperties>
</file>